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932E-F6DE-40E6-9454-0DDDDDC0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0FAB-89F6-4357-9591-20738784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2FD7-50D1-4C09-8EBA-62B482AB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4FE5-77BA-42C7-929B-2CCE3CD4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476B-F5D5-459A-A5FA-82D2F4BC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CC3E-C877-4012-B078-C0923B4B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28C4-FFEA-406C-9FDA-6058487C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C454-48D0-4D0C-AB69-2227BA69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A9B7-7E66-4C26-B176-E314D3D6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D70B-2F56-4B36-B532-268DE253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DB92-FC3C-4664-A0F6-6F200ABD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24FE-D89F-42CF-9E7F-119A2DF1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1611-539D-4A48-97A1-D9772472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38B5-D54D-46FE-BD08-47700FB4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09CA-CF46-4179-978E-310ECD0B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B498-97A0-46B8-A424-1BBF0514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24AF-DD49-4ED7-89F3-1295CDB0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BE7E-01AB-4825-A287-D4D045A9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F741-6105-479A-9323-5663C491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3D15-77DF-437B-85EE-B58CB605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D9C6-2392-4222-9760-B9F41D83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DBA0-3DF9-4117-B2B7-493C9BBA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36E2-F9B1-4505-8D74-9D375F98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8B8C-7DE8-446C-8605-6F2ABF6C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78BD-A2D1-44DE-878E-E040F7804E0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B862-E8BE-4CD7-BD3A-0A4C2130C9A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1:25Z</dcterms:modified>
  <cp:revision>4</cp:revision>
  <dc:subject/>
  <dc:title>幻灯片 1</dc:title>
</cp:coreProperties>
</file>